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9.jpeg" ContentType="image/jpeg"/>
  <Override PartName="/ppt/media/image6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28.png" ContentType="image/png"/>
  <Override PartName="/ppt/media/image7.jpeg" ContentType="image/jpeg"/>
  <Override PartName="/ppt/media/image34.jpeg" ContentType="image/jpeg"/>
  <Override PartName="/ppt/media/image11.png" ContentType="image/png"/>
  <Override PartName="/ppt/media/image9.jpeg" ContentType="image/jpeg"/>
  <Override PartName="/ppt/media/image31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12.png" ContentType="image/png"/>
  <Override PartName="/ppt/media/image5.jpeg" ContentType="image/jpe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4.wmf" ContentType="image/x-wmf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088188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763B-083E-4054-AF72-D89440AF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103C-7927-4680-B433-9D465100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C2BD-B71E-4BE2-9F5D-E4F3E302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17AF-B0AC-40D9-B130-A083CED4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FDD-647B-4C51-9AA1-E3ED0D40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D26C-2C0B-4760-86B8-967626CC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2156-9CCC-46A1-850B-304DD72F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6890-F080-4930-85C3-36EB7590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1DEE-C5DB-46AB-A9F3-A5194299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0315-99B7-43D8-8727-A16DE8C7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9438-9DC9-4B75-A27E-F1468C4A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0B42-E1D7-4B72-A0D9-F8295DB5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1E41-8A6D-46FE-88AC-4789F7727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676520"/>
            <a:ext cx="7925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000000"/>
                </a:solidFill>
                <a:latin typeface="Arial Black"/>
              </a:rPr>
              <a:t>Las ciudades de Cuba en el Ordenamiento Territorial Nacion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hab2" descr=""/>
          <p:cNvPicPr/>
          <p:nvPr/>
        </p:nvPicPr>
        <p:blipFill>
          <a:blip r:embed="rId1"/>
          <a:stretch/>
        </p:blipFill>
        <p:spPr>
          <a:xfrm>
            <a:off x="-409680" y="0"/>
            <a:ext cx="95536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Arial Black"/>
              </a:rPr>
              <a:t>VARIABLES UTILIZ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0948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1. Población total en el año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2. Tasa migratoria en el perío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       </a:t>
            </a: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1989 –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362320"/>
            <a:ext cx="9144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3.</a:t>
            </a: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	</a:t>
            </a: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Industria de producción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4.</a:t>
            </a: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	</a:t>
            </a: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Habitaciones en turismo             inter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5.</a:t>
            </a: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	</a:t>
            </a: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Trabajadores en industria y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6.</a:t>
            </a: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	</a:t>
            </a: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Trabajadores por cuenta prop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867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7.     Centros de educación sup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38880" y="6324480"/>
            <a:ext cx="1905120" cy="152640"/>
          </a:xfrm>
          <a:prstGeom prst="rightArrow">
            <a:avLst>
              <a:gd name="adj1" fmla="val 50000"/>
              <a:gd name="adj2" fmla="val 3120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hab2" descr=""/>
          <p:cNvPicPr/>
          <p:nvPr/>
        </p:nvPicPr>
        <p:blipFill>
          <a:blip r:embed="rId1"/>
          <a:stretch/>
        </p:blipFill>
        <p:spPr>
          <a:xfrm>
            <a:off x="-204840" y="0"/>
            <a:ext cx="95536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2590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523880"/>
            <a:ext cx="91440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9.    Valores históricos y arquitectónicos       patrimon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10.  Eventos culturales de carácter nacional e internacio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11.  Telecen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12.  Editorial y periódico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029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13.  Existencia de aeropuerto nacional e   inter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7542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80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8.    Hospitales especializados y   reg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6248520"/>
            <a:ext cx="1981440" cy="228600"/>
          </a:xfrm>
          <a:prstGeom prst="rightArrow">
            <a:avLst>
              <a:gd name="adj1" fmla="val 50000"/>
              <a:gd name="adj2" fmla="val 21669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hab2" descr=""/>
          <p:cNvPicPr/>
          <p:nvPr/>
        </p:nvPicPr>
        <p:blipFill>
          <a:blip r:embed="rId1"/>
          <a:stretch/>
        </p:blipFill>
        <p:spPr>
          <a:xfrm>
            <a:off x="0" y="0"/>
            <a:ext cx="95536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50292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18. Potencial Turístico </a:t>
            </a: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	</a:t>
            </a: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057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15. Acceso a vías férreas y carreteras de carácter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352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16. Función territorial según los EP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191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17. Complejidad de la estructura urb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542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094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14. Existencia de puertos de importación y expor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3520" y="3048120"/>
            <a:ext cx="8153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IN35....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3900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7200" y="5335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66"/>
                </a:solidFill>
                <a:latin typeface="Arial Black"/>
              </a:rPr>
              <a:t>CIUDADES DE INTERES NA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hab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0000"/>
                </a:solidFill>
                <a:latin typeface="Arial Black"/>
              </a:rPr>
              <a:t>LAS CIUDADES DE INTERES NACIONAL EN EL S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2286000"/>
            <a:ext cx="8076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447920"/>
            <a:ext cx="8915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Arial Black"/>
              </a:rPr>
              <a:t>NIVELES          ASENT.  POBLAC.    % C</a:t>
            </a:r>
            <a:r>
              <a:rPr b="1" lang="es-ES" sz="3200" spc="-1" strike="noStrike">
                <a:solidFill>
                  <a:srgbClr val="cc0000"/>
                </a:solidFill>
                <a:latin typeface="Arial Black"/>
              </a:rPr>
              <a:t>apital del país</a:t>
            </a:r>
            <a:r>
              <a:rPr b="1" lang="es-ES" sz="3200" spc="-1" strike="noStrike">
                <a:solidFill>
                  <a:srgbClr val="cc0000"/>
                </a:solidFill>
                <a:latin typeface="Arial Black"/>
              </a:rPr>
              <a:t>	</a:t>
            </a:r>
            <a:r>
              <a:rPr b="1" lang="es-ES" sz="3200" spc="-1" strike="noStrike">
                <a:solidFill>
                  <a:srgbClr val="cc0000"/>
                </a:solidFill>
                <a:latin typeface="Arial Black"/>
              </a:rPr>
              <a:t>    1</a:t>
            </a:r>
            <a:r>
              <a:rPr b="1" lang="es-ES" sz="3200" spc="-1" strike="noStrike">
                <a:solidFill>
                  <a:srgbClr val="cc0000"/>
                </a:solidFill>
                <a:latin typeface="Arial Black"/>
              </a:rPr>
              <a:t>	</a:t>
            </a:r>
            <a:r>
              <a:rPr b="1" lang="es-ES" sz="3200" spc="-1" strike="noStrike">
                <a:solidFill>
                  <a:srgbClr val="cc0000"/>
                </a:solidFill>
                <a:latin typeface="Arial Black"/>
              </a:rPr>
              <a:t>       2185,0</a:t>
            </a:r>
            <a:r>
              <a:rPr b="1" lang="es-ES" sz="3200" spc="-1" strike="noStrike">
                <a:solidFill>
                  <a:srgbClr val="cc0000"/>
                </a:solidFill>
                <a:latin typeface="Arial Black"/>
              </a:rPr>
              <a:t>	</a:t>
            </a:r>
            <a:r>
              <a:rPr b="1" lang="es-ES" sz="3200" spc="-1" strike="noStrike">
                <a:solidFill>
                  <a:srgbClr val="cc0000"/>
                </a:solidFill>
                <a:latin typeface="Arial Black"/>
              </a:rPr>
              <a:t>  19,9         Capitales prov.     12</a:t>
            </a:r>
            <a:r>
              <a:rPr b="1" lang="es-ES" sz="3200" spc="-1" strike="noStrike">
                <a:solidFill>
                  <a:srgbClr val="cc0000"/>
                </a:solidFill>
                <a:latin typeface="Arial Black"/>
              </a:rPr>
              <a:t>	</a:t>
            </a:r>
            <a:r>
              <a:rPr b="1" lang="es-ES" sz="3200" spc="-1" strike="noStrike">
                <a:solidFill>
                  <a:srgbClr val="cc0000"/>
                </a:solidFill>
                <a:latin typeface="Arial Black"/>
              </a:rPr>
              <a:t>2209,9</a:t>
            </a:r>
            <a:r>
              <a:rPr b="1" lang="es-ES" sz="3200" spc="-1" strike="noStrike">
                <a:solidFill>
                  <a:srgbClr val="cc0000"/>
                </a:solidFill>
                <a:latin typeface="Arial Black"/>
              </a:rPr>
              <a:t>	</a:t>
            </a:r>
            <a:r>
              <a:rPr b="1" lang="es-ES" sz="3200" spc="-1" strike="noStrike">
                <a:solidFill>
                  <a:srgbClr val="cc0000"/>
                </a:solidFill>
                <a:latin typeface="Arial Black"/>
              </a:rPr>
              <a:t>  20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Arial Black"/>
              </a:rPr>
              <a:t>Cabeceras mun.  142      2529,7     23,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Arial Black"/>
              </a:rPr>
              <a:t>   </a:t>
            </a:r>
            <a:r>
              <a:rPr b="1" lang="es-ES" sz="3200" spc="-1" strike="noStrike">
                <a:solidFill>
                  <a:srgbClr val="cc0000"/>
                </a:solidFill>
                <a:latin typeface="Arial Black"/>
              </a:rPr>
              <a:t>de ellas CIN        22      1008,5       9,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00"/>
                </a:solidFill>
                <a:latin typeface="Arial Black"/>
              </a:rPr>
              <a:t>Total CIN               35      5403,4</a:t>
            </a:r>
            <a:r>
              <a:rPr b="1" lang="es-ES" sz="3200" spc="-1" strike="noStrike">
                <a:solidFill>
                  <a:srgbClr val="cc0000"/>
                </a:solidFill>
                <a:latin typeface="Arial Black"/>
              </a:rPr>
              <a:t>	</a:t>
            </a:r>
            <a:r>
              <a:rPr b="1" lang="es-ES" sz="3200" spc="-1" strike="noStrike">
                <a:solidFill>
                  <a:srgbClr val="cc0000"/>
                </a:solidFill>
                <a:latin typeface="Arial Black"/>
              </a:rPr>
              <a:t>   49,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Arial Black"/>
              </a:rPr>
              <a:t>  </a:t>
            </a:r>
            <a:r>
              <a:rPr b="0" lang="es-ES" sz="3200" spc="-1" strike="noStrike">
                <a:solidFill>
                  <a:srgbClr val="cc0000"/>
                </a:solidFill>
                <a:latin typeface="Arial Black"/>
              </a:rPr>
              <a:t>	</a:t>
            </a:r>
            <a:r>
              <a:rPr b="0" lang="es-ES" sz="3200" spc="-1" strike="noStrike">
                <a:solidFill>
                  <a:srgbClr val="cc0000"/>
                </a:solidFill>
                <a:latin typeface="Arial Black"/>
              </a:rPr>
              <a:t>	</a:t>
            </a:r>
            <a:r>
              <a:rPr b="0" lang="es-ES" sz="3200" spc="-1" strike="noStrike">
                <a:solidFill>
                  <a:srgbClr val="cc0000"/>
                </a:solidFill>
                <a:latin typeface="Arial Black"/>
              </a:rPr>
              <a:t>	</a:t>
            </a:r>
            <a:r>
              <a:rPr b="0" lang="es-ES" sz="3200" spc="-1" strike="noStrike">
                <a:solidFill>
                  <a:srgbClr val="cc0000"/>
                </a:solidFill>
                <a:latin typeface="Arial Black"/>
              </a:rPr>
              <a:t>	</a:t>
            </a:r>
            <a:r>
              <a:rPr b="0" lang="es-ES" sz="3200" spc="-1" strike="noStrike">
                <a:solidFill>
                  <a:srgbClr val="cc0000"/>
                </a:solidFill>
                <a:latin typeface="Arial Black"/>
              </a:rPr>
              <a:t>      </a:t>
            </a:r>
            <a:r>
              <a:rPr b="0" lang="es-ES" sz="3200" spc="-1" strike="noStrike">
                <a:solidFill>
                  <a:srgbClr val="cc0000"/>
                </a:solidFill>
                <a:latin typeface="Arial Black"/>
              </a:rPr>
              <a:t>	</a:t>
            </a:r>
            <a:r>
              <a:rPr b="0" lang="es-ES" sz="3200" spc="-1" strike="noStrike">
                <a:solidFill>
                  <a:srgbClr val="cc0000"/>
                </a:solidFill>
                <a:latin typeface="Arial Black"/>
              </a:rPr>
              <a:t>                    </a:t>
            </a:r>
            <a:r>
              <a:rPr b="0" lang="es-ES" sz="3200" spc="-1" strike="noStrike">
                <a:solidFill>
                  <a:srgbClr val="cc0000"/>
                </a:solidFill>
                <a:latin typeface="Arial Black"/>
              </a:rPr>
              <a:t>TOTAL               6834     10998,5   100,0</a:t>
            </a: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hab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Black"/>
              </a:rPr>
              <a:t>AREA DE INFLUENCIA DE LAS C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371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Black"/>
              </a:rPr>
              <a:t>1.  EN EL MARCO INTERMUNI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2362320"/>
            <a:ext cx="8229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Subsistema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Subsistemas de emp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Isocronas de 1 hora, 45 y 30 minu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Transporte púb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g1" descr=""/>
          <p:cNvPicPr/>
          <p:nvPr/>
        </p:nvPicPr>
        <p:blipFill>
          <a:blip r:embed="rId2"/>
          <a:stretch/>
        </p:blipFill>
        <p:spPr>
          <a:xfrm>
            <a:off x="0" y="64296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hab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Black"/>
              </a:rPr>
              <a:t>AREA DE INFLUENCIA DE LAS C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4479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Black"/>
              </a:rPr>
              <a:t>1.  EN EL MARCO INTERPROVI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362320"/>
            <a:ext cx="9144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Prestación de servicios de carácter superior y especializados en la Salud, Educación, la Cultura y el De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La migración pendular al trabajo y las migraciones interprovi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18288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6668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Interprov" descr=""/>
          <p:cNvPicPr/>
          <p:nvPr/>
        </p:nvPicPr>
        <p:blipFill>
          <a:blip r:embed="rId2"/>
          <a:stretch/>
        </p:blipFill>
        <p:spPr>
          <a:xfrm>
            <a:off x="0" y="64296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JerarquíaCIN" descr=""/>
          <p:cNvPicPr/>
          <p:nvPr/>
        </p:nvPicPr>
        <p:blipFill>
          <a:blip r:embed="rId2"/>
          <a:stretch/>
        </p:blipFill>
        <p:spPr>
          <a:xfrm>
            <a:off x="0" y="635040"/>
            <a:ext cx="914400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 Black"/>
              </a:rPr>
              <a:t>ANTECED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ronost2000" descr=""/>
          <p:cNvPicPr/>
          <p:nvPr/>
        </p:nvPicPr>
        <p:blipFill>
          <a:blip r:embed="rId2"/>
          <a:stretch/>
        </p:blipFill>
        <p:spPr>
          <a:xfrm>
            <a:off x="0" y="2406600"/>
            <a:ext cx="9144000" cy="4451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066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Black"/>
              </a:rPr>
              <a:t>Pronóstico de Urbanización al año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hab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066680"/>
            <a:ext cx="91440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Crecimiento físico y utilización del sue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Desenvolvimiento económ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Equipamiento y Desarrollo so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Historicidad y cul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Enclav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Infraestructura vial y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Habitat 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Imagen urb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 Black"/>
              </a:rPr>
              <a:t>ANALISIS INTER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favorCIN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5588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Black"/>
              </a:rPr>
              <a:t>FAVORABILIDAD DE LAS C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121932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havan0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62120" y="685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 Black"/>
              </a:rPr>
              <a:t>LA HAB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C-SANTIA" descr=""/>
          <p:cNvPicPr/>
          <p:nvPr/>
        </p:nvPicPr>
        <p:blipFill>
          <a:blip r:embed="rId2"/>
          <a:stretch/>
        </p:blipFill>
        <p:spPr>
          <a:xfrm>
            <a:off x="0" y="22320"/>
            <a:ext cx="9144000" cy="6810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1143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3808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0000"/>
                </a:solidFill>
                <a:latin typeface="Arial Black"/>
              </a:rPr>
              <a:t>SANTIAGO DE CUB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-CAMAG" descr=""/>
          <p:cNvPicPr/>
          <p:nvPr/>
        </p:nvPicPr>
        <p:blipFill>
          <a:blip r:embed="rId2"/>
          <a:stretch/>
        </p:blipFill>
        <p:spPr>
          <a:xfrm>
            <a:off x="0" y="1828800"/>
            <a:ext cx="4753080" cy="5029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59436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Black"/>
              </a:rPr>
              <a:t>CAMAGÜ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villa056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7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648320" y="6094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3300"/>
                </a:solidFill>
                <a:latin typeface="Arial Black"/>
              </a:rPr>
              <a:t>SANTA CL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C-HOLGUI" descr=""/>
          <p:cNvPicPr/>
          <p:nvPr/>
        </p:nvPicPr>
        <p:blipFill>
          <a:blip r:embed="rId4"/>
          <a:stretch/>
        </p:blipFill>
        <p:spPr>
          <a:xfrm>
            <a:off x="4572000" y="3416400"/>
            <a:ext cx="4572000" cy="3441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010280" y="3657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OLGUÍ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447920" y="380880"/>
            <a:ext cx="5331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-MATANZ" descr="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575080"/>
          </a:xfrm>
          <a:prstGeom prst="rect">
            <a:avLst/>
          </a:prstGeom>
          <a:ln w="0">
            <a:noFill/>
          </a:ln>
        </p:spPr>
      </p:pic>
      <p:pic>
        <p:nvPicPr>
          <p:cNvPr id="128" name="C-PINAR" descr=""/>
          <p:cNvPicPr/>
          <p:nvPr/>
        </p:nvPicPr>
        <p:blipFill>
          <a:blip r:embed="rId3"/>
          <a:stretch/>
        </p:blipFill>
        <p:spPr>
          <a:xfrm>
            <a:off x="0" y="2195640"/>
            <a:ext cx="3200400" cy="2341440"/>
          </a:xfrm>
          <a:prstGeom prst="rect">
            <a:avLst/>
          </a:prstGeom>
          <a:ln w="0">
            <a:noFill/>
          </a:ln>
        </p:spPr>
      </p:pic>
      <p:pic>
        <p:nvPicPr>
          <p:cNvPr id="129" name="C-CIEGO" descr=""/>
          <p:cNvPicPr/>
          <p:nvPr/>
        </p:nvPicPr>
        <p:blipFill>
          <a:blip r:embed="rId4"/>
          <a:stretch/>
        </p:blipFill>
        <p:spPr>
          <a:xfrm>
            <a:off x="3048120" y="0"/>
            <a:ext cx="3352680" cy="2444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80880" y="12952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76720" y="2362320"/>
          <a:ext cx="3047760" cy="22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2362320"/>
                    <a:ext cx="3047760" cy="22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3276720" y="25146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ff"/>
                </a:solidFill>
                <a:latin typeface="Arial Black"/>
              </a:rPr>
              <a:t>CIENFUE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 Black"/>
              </a:rPr>
              <a:t>CIEGO DE ÁVI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C-BAYAMO" descr=""/>
          <p:cNvPicPr/>
          <p:nvPr/>
        </p:nvPicPr>
        <p:blipFill>
          <a:blip r:embed="rId7"/>
          <a:stretch/>
        </p:blipFill>
        <p:spPr>
          <a:xfrm>
            <a:off x="2971800" y="4438800"/>
            <a:ext cx="3200400" cy="2419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886200" y="44956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Black"/>
              </a:rPr>
              <a:t>BAYA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C-MANZAN" descr=""/>
          <p:cNvPicPr/>
          <p:nvPr/>
        </p:nvPicPr>
        <p:blipFill>
          <a:blip r:embed="rId8"/>
          <a:stretch/>
        </p:blipFill>
        <p:spPr>
          <a:xfrm>
            <a:off x="6400800" y="2133720"/>
            <a:ext cx="2743200" cy="2547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324480" y="4191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 Black"/>
              </a:rPr>
              <a:t>MANZA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C-GUANTA" descr=""/>
          <p:cNvPicPr/>
          <p:nvPr/>
        </p:nvPicPr>
        <p:blipFill>
          <a:blip r:embed="rId9"/>
          <a:stretch/>
        </p:blipFill>
        <p:spPr>
          <a:xfrm>
            <a:off x="6172200" y="4606920"/>
            <a:ext cx="2971800" cy="2251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400800" y="4876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00"/>
                </a:solidFill>
                <a:latin typeface="Arial Black"/>
              </a:rPr>
              <a:t>GUANTÁNA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C-TUNAS" descr=""/>
          <p:cNvPicPr/>
          <p:nvPr/>
        </p:nvPicPr>
        <p:blipFill>
          <a:blip r:embed="rId10"/>
          <a:stretch/>
        </p:blipFill>
        <p:spPr>
          <a:xfrm>
            <a:off x="0" y="4352760"/>
            <a:ext cx="2971800" cy="2505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49449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9966"/>
                </a:solidFill>
                <a:latin typeface="Arial Black"/>
              </a:rPr>
              <a:t>LAS TUN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5812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Black"/>
              </a:rPr>
              <a:t>PINAR DEL 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58240" y="144792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ddddd"/>
                </a:solidFill>
                <a:latin typeface="Arial Black"/>
              </a:rPr>
              <a:t>MATAN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-SPIRIT" descr=""/>
          <p:cNvPicPr/>
          <p:nvPr/>
        </p:nvPicPr>
        <p:blipFill>
          <a:blip r:embed="rId11"/>
          <a:stretch/>
        </p:blipFill>
        <p:spPr>
          <a:xfrm>
            <a:off x="1116000" y="0"/>
            <a:ext cx="1949400" cy="2209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066680" y="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SANCTI SPÍRI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0880" y="3808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ciu1" descr=""/>
          <p:cNvPicPr/>
          <p:nvPr/>
        </p:nvPicPr>
        <p:blipFill>
          <a:blip r:embed="rId2"/>
          <a:stretch/>
        </p:blipFill>
        <p:spPr>
          <a:xfrm>
            <a:off x="5943600" y="0"/>
            <a:ext cx="3200400" cy="2236680"/>
          </a:xfrm>
          <a:prstGeom prst="rect">
            <a:avLst/>
          </a:prstGeom>
          <a:ln w="0">
            <a:noFill/>
          </a:ln>
        </p:spPr>
      </p:pic>
      <p:pic>
        <p:nvPicPr>
          <p:cNvPr id="149" name="TRINIDA1" descr=""/>
          <p:cNvPicPr/>
          <p:nvPr/>
        </p:nvPicPr>
        <p:blipFill>
          <a:blip r:embed="rId3"/>
          <a:stretch/>
        </p:blipFill>
        <p:spPr>
          <a:xfrm>
            <a:off x="0" y="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8580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TRI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00800" y="457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BARA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C-CARDEN" descr=""/>
          <p:cNvPicPr/>
          <p:nvPr/>
        </p:nvPicPr>
        <p:blipFill>
          <a:blip r:embed="rId4"/>
          <a:stretch/>
        </p:blipFill>
        <p:spPr>
          <a:xfrm>
            <a:off x="3276720" y="0"/>
            <a:ext cx="2819160" cy="2697120"/>
          </a:xfrm>
          <a:prstGeom prst="rect">
            <a:avLst/>
          </a:prstGeom>
          <a:ln w="0">
            <a:noFill/>
          </a:ln>
        </p:spPr>
      </p:pic>
      <p:pic>
        <p:nvPicPr>
          <p:cNvPr id="153" name="CI-NUEVI" descr=""/>
          <p:cNvPicPr/>
          <p:nvPr/>
        </p:nvPicPr>
        <p:blipFill>
          <a:blip r:embed="rId5"/>
          <a:stretch/>
        </p:blipFill>
        <p:spPr>
          <a:xfrm>
            <a:off x="0" y="3584520"/>
            <a:ext cx="3581280" cy="3273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505320" y="2057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ddddd"/>
                </a:solidFill>
                <a:latin typeface="Arial Black"/>
              </a:rPr>
              <a:t>CÁRDE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259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NUEVI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C-GERONA" descr=""/>
          <p:cNvPicPr/>
          <p:nvPr/>
        </p:nvPicPr>
        <p:blipFill>
          <a:blip r:embed="rId6"/>
          <a:stretch/>
        </p:blipFill>
        <p:spPr>
          <a:xfrm>
            <a:off x="5943600" y="3200400"/>
            <a:ext cx="3200400" cy="2693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962520" y="5707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81680" y="4572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Arial Black"/>
              </a:rPr>
              <a:t>N. GE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27432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MOR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4114800"/>
            <a:ext cx="1600200" cy="12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M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449600" y="3048120"/>
            <a:ext cx="57960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743200"/>
            <a:ext cx="205740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arroquia%20mayor,remedios." descr=""/>
          <p:cNvPicPr/>
          <p:nvPr/>
        </p:nvPicPr>
        <p:blipFill>
          <a:blip r:embed="rId2"/>
          <a:stretch/>
        </p:blipFill>
        <p:spPr>
          <a:xfrm>
            <a:off x="5257800" y="0"/>
            <a:ext cx="3435480" cy="2598840"/>
          </a:xfrm>
          <a:prstGeom prst="rect">
            <a:avLst/>
          </a:prstGeom>
          <a:ln w="0">
            <a:noFill/>
          </a:ln>
        </p:spPr>
      </p:pic>
      <p:pic>
        <p:nvPicPr>
          <p:cNvPr id="164" name="palma" descr=""/>
          <p:cNvPicPr/>
          <p:nvPr/>
        </p:nvPicPr>
        <p:blipFill>
          <a:blip r:embed="rId3"/>
          <a:stretch/>
        </p:blipFill>
        <p:spPr>
          <a:xfrm>
            <a:off x="5334120" y="4363920"/>
            <a:ext cx="3352680" cy="2494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295280" y="14479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San Cristó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2514600"/>
            <a:ext cx="25909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Artemi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Gü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4876920"/>
            <a:ext cx="35053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Col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Jagüey Gr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29200" y="1066680"/>
            <a:ext cx="411480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749"/>
              </a:spcBef>
              <a:buClr>
                <a:srgbClr val="cc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66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cc0066"/>
                </a:solidFill>
                <a:latin typeface="Arial Black"/>
              </a:rPr>
              <a:t>Sagua la Gr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buClr>
                <a:srgbClr val="cc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66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cc0066"/>
                </a:solidFill>
                <a:latin typeface="Arial Black"/>
              </a:rPr>
              <a:t>Caibarié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buClr>
                <a:srgbClr val="cc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66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cc0066"/>
                </a:solidFill>
                <a:latin typeface="Arial Black"/>
              </a:rPr>
              <a:t>Re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30481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Flo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3809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Puerto Pad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7120" y="3124080"/>
            <a:ext cx="26668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B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Mayar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5889600"/>
            <a:ext cx="365760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Arial Black"/>
              </a:rPr>
              <a:t>Palma Sori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Arial Black"/>
              </a:rPr>
              <a:t>Contramaes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38080" y="380880"/>
            <a:ext cx="5335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Black"/>
              </a:rPr>
              <a:t>Pronóstico de Urbanización al año 2000.  Esquema de las relaciones funcion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3200400"/>
            <a:ext cx="7391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838080" y="1684440"/>
          <a:ext cx="6934320" cy="51735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684440"/>
                    <a:ext cx="69343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hab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Black"/>
              </a:rPr>
              <a:t>LAS CIUDADES EN EL AÑO 19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858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Black"/>
              </a:rPr>
              <a:t>Por definición cen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71600"/>
            <a:ext cx="9144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Clasificación    Rango Pob.          1981     1995 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           habitantes               ciudades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Metrópolis            &gt; 500 mil              1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       1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Primer orden  100 – 499,9 mil          8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      11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Segundo orden 50 –  99,9 mil           7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       6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Tercer orden    20 –  49,9 mil          26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      37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TOTAL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              -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                          42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      55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hab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Black"/>
              </a:rPr>
              <a:t>LAS CIUDADES EN EL SAP (199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838080"/>
            <a:ext cx="891540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NIVELES          ASENT.  POBLAC.    % C</a:t>
            </a:r>
            <a:r>
              <a:rPr b="1" lang="es-ES" sz="3200" spc="-1" strike="noStrike">
                <a:solidFill>
                  <a:srgbClr val="000000"/>
                </a:solidFill>
                <a:latin typeface="Arial Black"/>
              </a:rPr>
              <a:t>apital del país</a:t>
            </a:r>
            <a:r>
              <a:rPr b="1" lang="es-E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 Black"/>
              </a:rPr>
              <a:t>    1</a:t>
            </a:r>
            <a:r>
              <a:rPr b="1" lang="es-E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 Black"/>
              </a:rPr>
              <a:t>       2185,0</a:t>
            </a:r>
            <a:r>
              <a:rPr b="1" lang="es-E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 Black"/>
              </a:rPr>
              <a:t>  19,9         Capitales prov.     12</a:t>
            </a:r>
            <a:r>
              <a:rPr b="1" lang="es-E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 Black"/>
              </a:rPr>
              <a:t>2209,9</a:t>
            </a:r>
            <a:r>
              <a:rPr b="1" lang="es-E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 Black"/>
              </a:rPr>
              <a:t>  20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Cabeceras mun.  141      2529,7     23,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Arial Black"/>
              </a:rPr>
              <a:t>de ellas ciudades   42        1513,0       13,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Franja de base  6679      4073,9</a:t>
            </a: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  37,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TOTAL               6834    10998,5   100,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hab2" descr=""/>
          <p:cNvPicPr/>
          <p:nvPr/>
        </p:nvPicPr>
        <p:blipFill>
          <a:blip r:embed="rId1"/>
          <a:stretch/>
        </p:blipFill>
        <p:spPr>
          <a:xfrm>
            <a:off x="-204840" y="0"/>
            <a:ext cx="95536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 Black"/>
              </a:rPr>
              <a:t>CIUDAD DE INTERES NA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82880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Arial Black"/>
              </a:rPr>
              <a:t>Asentamientos poblacionales urbanos caracterizados por una gran diversidad, que estructuran territorios al establecer relaciones funcionales de carácter regional y con una actividad productiva de marcado interés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 Black"/>
              </a:rPr>
              <a:t>CRITERIOS DE SELE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7524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66"/>
                </a:solidFill>
                <a:latin typeface="Arial Black"/>
              </a:rPr>
              <a:t>Tamaño poblacional mayor de 20 mil habit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8954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66"/>
                </a:solidFill>
                <a:latin typeface="Arial Black"/>
              </a:rPr>
              <a:t>Ciudades seleccionadas para el desarrollo indus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9144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0066"/>
                </a:solidFill>
                <a:latin typeface="Arial Black"/>
              </a:rPr>
              <a:t>Jerarquía política administr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66"/>
                </a:solidFill>
                <a:latin typeface="Arial Black"/>
              </a:rPr>
              <a:t>Valores en el orden histórico - cul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3038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66"/>
                </a:solidFill>
                <a:latin typeface="Arial Black"/>
              </a:rPr>
              <a:t>Centros propuestos por los esquemas de estructuración del S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Arial Black"/>
              </a:rPr>
              <a:t>ASENTAMIENTOS PROPUESTOS A EVALU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ciu58" descr="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68360" y="620640"/>
            <a:ext cx="30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66"/>
                </a:solidFill>
                <a:latin typeface="Arial Black"/>
              </a:rPr>
              <a:t>TEMAT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057400"/>
            <a:ext cx="63244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1" lang="es-ES_tradnl" sz="3200" spc="-1" strike="noStrike">
                <a:solidFill>
                  <a:srgbClr val="ff0066"/>
                </a:solidFill>
                <a:latin typeface="Arial Black"/>
              </a:rPr>
              <a:t>Demográf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1" lang="es-ES_tradnl" sz="3200" spc="-1" strike="noStrike">
                <a:solidFill>
                  <a:srgbClr val="ff0066"/>
                </a:solidFill>
                <a:latin typeface="Arial Black"/>
              </a:rPr>
              <a:t>Econó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Arial Black"/>
              </a:rPr>
              <a:t>Histórico y cultu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Arial Black"/>
              </a:rPr>
              <a:t>Jerárquico fu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Arial Black"/>
              </a:rPr>
              <a:t>Accesi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6T19:38:28Z</dcterms:created>
  <dc:creator>Emigdia Bermúdez</dc:creator>
  <dc:description/>
  <dc:language>en-US</dc:language>
  <cp:lastModifiedBy>Arq. Ernesto Borchichi</cp:lastModifiedBy>
  <cp:lastPrinted>2000-06-21T01:43:44Z</cp:lastPrinted>
  <dcterms:modified xsi:type="dcterms:W3CDTF">2000-12-05T15:32:28Z</dcterms:modified>
  <cp:revision>88</cp:revision>
  <dc:subject>CIUDADES DE INTERÉS NACIONAL</dc:subject>
  <dc:title>EXPOSICIÓN EVENTO URBANISMO 2000</dc:title>
</cp:coreProperties>
</file>